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49C-87B0-406F-8185-C98CFEB0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DD0D-227F-42B8-9193-86B72D3D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352-D0A4-486E-A3C2-986D7BBE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2C5-4EB5-40BC-9B72-1A626BF0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29E2-D455-45EB-88D3-2BA418F4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A748-B372-4FE6-9CDF-212333A0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87BA-DB1D-4AAE-BD40-CF7C42B4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D8F6-DD49-41DA-BC88-E05596D3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7D74-289D-4F97-814D-0B3608B0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98A4-3F87-482A-AB8F-7A30033E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9E7A-821D-478E-A4CC-A2EB5115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C27E-A2B0-476B-8E02-A8827498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0A67-68A4-45CF-8789-E7CF9124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55C7-FE06-47FC-BEB2-C0118A5F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0C8A-68AC-41FC-86E8-2B0BFB46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4C1B-D547-41AA-ACD5-91CC5B9A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848B-6D07-4E0F-B2EC-EC425B38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ABC-B6CB-4FD6-943E-68D7ED1A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20E0-FFC1-4C27-8206-69E881D2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B778-DBF0-4C65-89B5-91517317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8EDE-9330-4276-A8E6-3B27AD98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819A-31E6-4A1E-998C-73911A55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034A-33F5-4A03-A188-9D3D45CD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BBC-C815-4FB1-954E-D11479F9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9367-F2AD-4224-BDDD-001A26980A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2F1E-7CB4-4183-BF3D-A7ED08507D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heritance Anomal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ynchronization of concurrent objects and inherit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paper: [Matsuoka93] Analysis of Inheritance Anomalies in OOP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oding a base class (…)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de related to concurrency control cannot be effectively inher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/or refined in a subclas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out non-trivial redefini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methods implementation.” [C. Lopes PhD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93A-8DB7-4753-B6C4-977D2F123DE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lutions fou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J Visitor to solve the Mouse probl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AspectJ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specific pointcuts =&gt; simpler adv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 pointcuts =&gt; more elaborated advi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aspects =&gt;higher degree of reus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o many abstraction levels make code difficult to foll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 classes =&gt; incremental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4F81-E029-4468-9ADC-341A615F40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tions are very dependent on the parser for the simulation langu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OP design has hardly been used instead of OOP des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3D4-C1F0-4A92-B728-A23E2339A72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 of best solu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ing from scrat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AOP design and open class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AspectJ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abstract aspects for reus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fine grained definition of pointcu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5EF-9989-4530-B91B-415CEC1F52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eparation of core and synchronization behaviors (1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ynchronization constrai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certain state an object can accept only certain methods to maintain its internal integr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unded-Buffer obje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(): if buffer not emp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t(): if buffer not fu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4120" y="3886200"/>
            <a:ext cx="365760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6853-4E09-4D18-BCB0-7CA2DD80E9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eparation of core and synchronization behaviors (2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ynchronization co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ion of code where the synchronization behavior is controll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must always be consistent with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ynchronization constrai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EF9A-A017-40C5-96DD-BAECE23E11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When are Inheritance Anomalies found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tion of acceptable states (Get2(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-only sensitiveness of acceptable states (Gget(), DoubleClick()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ication of acceptable states. (Loc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1ED0-6E94-40AD-9987-623C67A925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es AOP help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20880" y="3054240"/>
            <a:ext cx="22730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0880" y="2597040"/>
            <a:ext cx="22730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0880" y="3968640"/>
            <a:ext cx="22730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20880" y="4425840"/>
            <a:ext cx="22730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20880" y="3282840"/>
            <a:ext cx="2273040" cy="1396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20880" y="2825640"/>
            <a:ext cx="2273040" cy="1396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20880" y="4730760"/>
            <a:ext cx="2273040" cy="1396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20880" y="3511440"/>
            <a:ext cx="2273040" cy="139680"/>
          </a:xfrm>
          <a:prstGeom prst="rect">
            <a:avLst/>
          </a:prstGeom>
          <a:solidFill>
            <a:srgbClr val="cc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0880" y="4197240"/>
            <a:ext cx="2273040" cy="139680"/>
          </a:xfrm>
          <a:prstGeom prst="rect">
            <a:avLst/>
          </a:prstGeom>
          <a:solidFill>
            <a:srgbClr val="cc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20880" y="5187960"/>
            <a:ext cx="2273040" cy="139680"/>
          </a:xfrm>
          <a:prstGeom prst="rect">
            <a:avLst/>
          </a:prstGeom>
          <a:solidFill>
            <a:srgbClr val="cc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0880" y="6102360"/>
            <a:ext cx="2273040" cy="139680"/>
          </a:xfrm>
          <a:prstGeom prst="rect">
            <a:avLst/>
          </a:prstGeom>
          <a:solidFill>
            <a:srgbClr val="cc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20880" y="5416560"/>
            <a:ext cx="2273040" cy="139680"/>
          </a:xfrm>
          <a:prstGeom prst="rect">
            <a:avLst/>
          </a:prstGeom>
          <a:solidFill>
            <a:srgbClr val="cc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7720" y="1828800"/>
            <a:ext cx="2509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O prog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20880" y="5873760"/>
            <a:ext cx="22730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20880" y="5645160"/>
            <a:ext cx="22730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0880" y="4959360"/>
            <a:ext cx="2273040" cy="1396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20880" y="3740040"/>
            <a:ext cx="2273040" cy="1396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876920" y="2438280"/>
            <a:ext cx="2273040" cy="3797280"/>
            <a:chOff x="4876920" y="2438280"/>
            <a:chExt cx="2273040" cy="3797280"/>
          </a:xfrm>
        </p:grpSpPr>
        <p:sp>
          <p:nvSpPr>
            <p:cNvPr id="115" name=""/>
            <p:cNvSpPr/>
            <p:nvPr/>
          </p:nvSpPr>
          <p:spPr>
            <a:xfrm>
              <a:off x="4876920" y="2438280"/>
              <a:ext cx="2273040" cy="113040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re behavior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6920" y="3733920"/>
              <a:ext cx="2273040" cy="11300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ynchronizatio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ehavi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5029200"/>
              <a:ext cx="2273040" cy="1206360"/>
            </a:xfrm>
            <a:prstGeom prst="rect">
              <a:avLst/>
            </a:prstGeom>
            <a:solidFill>
              <a:srgbClr val="cc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ther concern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elated behavior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723920" y="1676520"/>
            <a:ext cx="2509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O prog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388-8825-4035-92CA-F2FE4A9A15F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757520" y="1447560"/>
            <a:ext cx="6319440" cy="4708080"/>
            <a:chOff x="1757520" y="1447560"/>
            <a:chExt cx="6319440" cy="4708080"/>
          </a:xfrm>
        </p:grpSpPr>
        <p:sp>
          <p:nvSpPr>
            <p:cNvPr id="120" name=""/>
            <p:cNvSpPr/>
            <p:nvPr/>
          </p:nvSpPr>
          <p:spPr>
            <a:xfrm>
              <a:off x="3581280" y="1981080"/>
              <a:ext cx="11206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Mou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8080" y="3124080"/>
              <a:ext cx="1654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MouseWD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57520" y="4114800"/>
              <a:ext cx="1215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2-butt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34240" y="4114800"/>
              <a:ext cx="1215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3-butt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52680" y="4114800"/>
              <a:ext cx="10666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Whe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4343400" y="2437920"/>
              <a:ext cx="121896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504600" y="3581280"/>
              <a:ext cx="38124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361960" y="3581280"/>
              <a:ext cx="45720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657600" y="2437920"/>
              <a:ext cx="3808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3760" y="1447920"/>
              <a:ext cx="1676520" cy="16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LeftClick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RightClick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LeftPress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LeftReleas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724280" y="1447560"/>
              <a:ext cx="609480" cy="5331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24280" y="2438280"/>
              <a:ext cx="609480" cy="6098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7760" y="4952880"/>
              <a:ext cx="1981440" cy="120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WheelClick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WheelRollUp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WheelRollDown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5880" y="5181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MiddleClick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047400" y="4572000"/>
              <a:ext cx="304920" cy="3808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19360" y="4572000"/>
              <a:ext cx="609840" cy="3808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29200" y="4572000"/>
              <a:ext cx="1066680" cy="60948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160" y="4572000"/>
              <a:ext cx="1828800" cy="6094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ouble click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2880" y="129528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o inheritance anomali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21480" y="1447560"/>
            <a:ext cx="6855480" cy="4708080"/>
            <a:chOff x="1221480" y="1447560"/>
            <a:chExt cx="6855480" cy="4708080"/>
          </a:xfrm>
        </p:grpSpPr>
        <p:grpSp>
          <p:nvGrpSpPr>
            <p:cNvPr id="141" name=""/>
            <p:cNvGrpSpPr/>
            <p:nvPr/>
          </p:nvGrpSpPr>
          <p:grpSpPr>
            <a:xfrm>
              <a:off x="1221480" y="1828800"/>
              <a:ext cx="2157480" cy="1295280"/>
              <a:chOff x="1221480" y="1828800"/>
              <a:chExt cx="2157480" cy="1295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221480" y="1828800"/>
                <a:ext cx="2157480" cy="825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istory-onl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related behavio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81080" y="2286000"/>
                <a:ext cx="685800" cy="83808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757520" y="1447560"/>
              <a:ext cx="6319440" cy="4708080"/>
              <a:chOff x="1757520" y="1447560"/>
              <a:chExt cx="6319440" cy="4708080"/>
            </a:xfrm>
          </p:grpSpPr>
          <p:sp>
            <p:nvSpPr>
              <p:cNvPr id="145" name=""/>
              <p:cNvSpPr/>
              <p:nvPr/>
            </p:nvSpPr>
            <p:spPr>
              <a:xfrm>
                <a:off x="3581280" y="1981080"/>
                <a:ext cx="112068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ous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368080" y="3124080"/>
                <a:ext cx="165456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ouseWD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757520" y="4114800"/>
                <a:ext cx="121536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-butt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034240" y="4114800"/>
                <a:ext cx="121536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-butt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352680" y="4114800"/>
                <a:ext cx="106668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hee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4343400" y="2437920"/>
                <a:ext cx="1218960" cy="167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3504600" y="3581280"/>
                <a:ext cx="38124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361960" y="3581280"/>
                <a:ext cx="45720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3657600" y="2437920"/>
                <a:ext cx="380880" cy="68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333760" y="1447920"/>
                <a:ext cx="1676520" cy="162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LeftClick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ightClick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LeftPress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LeftRelease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4724280" y="1447560"/>
                <a:ext cx="609480" cy="53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24280" y="2438280"/>
                <a:ext cx="609480" cy="6098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7760" y="4952880"/>
                <a:ext cx="1981440" cy="1202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heelClick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heelRollUp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heelRollDown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95880" y="5181480"/>
                <a:ext cx="198108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iddleClick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3047400" y="4572000"/>
                <a:ext cx="30492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19360" y="4572000"/>
                <a:ext cx="60984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29200" y="4572000"/>
                <a:ext cx="106668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248160" y="4572000"/>
                <a:ext cx="182880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75F-B549-47AF-AFC1-6581478486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ouble clicks (1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ourier New"/>
              </a:rPr>
              <a:t>aspect DoubleClick {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 MouseWDc.prevOp;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 MouseWDc.get_prevOp() { 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revOp;  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MouseWDc.set_prevOp(String op) {prevOp=op;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ff661c"/>
                </a:solidFill>
                <a:latin typeface="Arial"/>
                <a:ea typeface="Times New Roman"/>
              </a:rPr>
              <a:t>// very specific pointcuts allow us keeping the advice simple</a:t>
            </a:r>
            <a:r>
              <a:rPr b="0" lang="en-US" sz="1200" spc="-1" strike="noStrike">
                <a:solidFill>
                  <a:srgbClr val="ff0033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pointc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c(MouseWDc m): (call(* *(..))) &amp;&amp; (!call(* get*(..))) &amp;&amp; (!call(* set*(..))) &amp;&amp; target(m) &amp;&amp; !within(DoubleClick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pointc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cTB(TwoButton m): call(* *Click(..)) &amp;&amp; target(m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pointc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cWM(WheelMouse m): (call(* LeftClick(..)) || call(* WheelClick(..))) &amp;&amp; target(m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af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MouseWDc m): pc(m) { </a:t>
            </a:r>
            <a:r>
              <a:rPr b="0" lang="en-US" sz="1200" spc="-1" strike="noStrike">
                <a:solidFill>
                  <a:srgbClr val="ff661c"/>
                </a:solidFill>
                <a:latin typeface="Arial"/>
                <a:ea typeface="Times New Roman"/>
              </a:rPr>
              <a:t>// common behavior for doublecl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 curr_op = thisJoinPoint.getSignature().toShortString(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f(m.get_prevOp()!=null &amp;&amp; m.get_prevOp().equals(curr_op)) {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f (curr_op.indexOf("LeftClick")!=-1) System.out.println("Double LeftClick detected"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 else {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f ((curr_op.indexOf("LeftClick")==-1) &amp;&amp; (curr_op.indexOf("RightClick")==-1) &amp;&amp;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curr_op.indexOf("WheelClick")==-1))  {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.set_prevOp(curr_op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581280"/>
            <a:ext cx="152280" cy="2362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C73-D2F0-4C74-A156-F872C978A3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ouble clicks (2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af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TwoButton m): pcTB(m) { </a:t>
            </a:r>
            <a:r>
              <a:rPr b="0" lang="en-US" sz="1200" spc="-1" strike="noStrike">
                <a:solidFill>
                  <a:srgbClr val="ff661c"/>
                </a:solidFill>
                <a:latin typeface="Arial"/>
                <a:ea typeface="Times New Roman"/>
              </a:rPr>
              <a:t>// exclusive behavior for TwoButton M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 curr_op = thisJoinPoint.getSignature().toShortString(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m.get_prevOp()!=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&amp;&amp; m.get_prevOp().equals(curr_op)) {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curr_op.indexOf(</a:t>
            </a:r>
            <a:r>
              <a:rPr b="0" lang="en-US" sz="1200" spc="-1" strike="noStrike">
                <a:solidFill>
                  <a:srgbClr val="7d007d"/>
                </a:solidFill>
                <a:latin typeface="Arial"/>
                <a:ea typeface="Times New Roman"/>
              </a:rPr>
              <a:t>"RightClick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!=-1) System.out.println(</a:t>
            </a:r>
            <a:r>
              <a:rPr b="0" lang="en-US" sz="1200" spc="-1" strike="noStrike">
                <a:solidFill>
                  <a:srgbClr val="7d007d"/>
                </a:solidFill>
                <a:latin typeface="Arial"/>
                <a:ea typeface="Times New Roman"/>
              </a:rPr>
              <a:t>"Double RightClick detected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 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{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.set_prevOp(curr_op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af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WheelMouse m): pcWM(m) { </a:t>
            </a:r>
            <a:r>
              <a:rPr b="0" lang="en-US" sz="1200" spc="-1" strike="noStrike">
                <a:solidFill>
                  <a:srgbClr val="ff661c"/>
                </a:solidFill>
                <a:latin typeface="Arial"/>
                <a:ea typeface="Times New Roman"/>
              </a:rPr>
              <a:t>// exclusive behavior for Wheel M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 curr_op = thisJoinPoint.getSignature().toShortString(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m.get_prevOp()!=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&amp;&amp; m.get_prevOp().equals(curr_op)) {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curr_op.indexOf(</a:t>
            </a:r>
            <a:r>
              <a:rPr b="0" lang="en-US" sz="1200" spc="-1" strike="noStrike">
                <a:solidFill>
                  <a:srgbClr val="7d007d"/>
                </a:solidFill>
                <a:latin typeface="Arial"/>
                <a:ea typeface="Times New Roman"/>
              </a:rPr>
              <a:t>"WheelClick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!=-1) System.out.println(</a:t>
            </a:r>
            <a:r>
              <a:rPr b="0" lang="en-US" sz="1200" spc="-1" strike="noStrike">
                <a:solidFill>
                  <a:srgbClr val="7d007d"/>
                </a:solidFill>
                <a:latin typeface="Arial"/>
                <a:ea typeface="Times New Roman"/>
              </a:rPr>
              <a:t>"Double WheelClick detected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 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{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.set_prevOp(curr_op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} </a:t>
            </a:r>
            <a:r>
              <a:rPr b="0" lang="en-US" sz="1400" spc="-1" strike="noStrike">
                <a:solidFill>
                  <a:srgbClr val="ff661c"/>
                </a:solidFill>
                <a:latin typeface="Arial"/>
                <a:ea typeface="Times New Roman"/>
              </a:rPr>
              <a:t>// end of asp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3581280"/>
            <a:ext cx="152280" cy="1676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828800"/>
            <a:ext cx="152280" cy="1676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752A-09F6-4252-87F8-E036B2D7A5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Advantages of using AOP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code tangling caused by synchronization conc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 inheritance anomalies associated with concurrenc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level of reusa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66E-6D8B-452C-9684-7183BC936C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ura</cp:lastModifiedBy>
  <dcterms:modified xsi:type="dcterms:W3CDTF">2002-03-12T17:53:01Z</dcterms:modified>
  <cp:revision>13</cp:revision>
  <dc:subject/>
  <dc:title>PowerPoint Presentation</dc:title>
</cp:coreProperties>
</file>